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pct" ContentType="image/x-pict"/>
  <Override PartName="/ppt/media/image8.png" ContentType="image/png"/>
  <Override PartName="/ppt/media/image6.pct" ContentType="image/x-pict"/>
  <Override PartName="/ppt/media/image7.jpeg" ContentType="image/jpeg"/>
  <Override PartName="/ppt/media/image11.png" ContentType="image/png"/>
  <Override PartName="/ppt/media/image12.jpeg" ContentType="image/jpeg"/>
  <Override PartName="/ppt/media/image9.jpeg" ContentType="image/jpeg"/>
  <Override PartName="/ppt/media/image13.pct" ContentType="image/x-pi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B355-43BB-4E69-BB14-4EBFD7113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56C0-F29C-4F6B-B9EC-365A26660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00A9-8BE5-480F-9B68-E6930B947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646F-7B9D-48D0-A2F8-BB7028308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77E1-481B-44DC-96B0-0F70FABAE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3723-A672-4FA6-AA09-CF87D1080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C287-E912-4720-BD9B-FAD01D0C1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577B-1E8F-4016-B9BE-660940590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9C99-1D85-433A-A0C4-743DC7FB8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C283-18AD-4F25-818D-B56328935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4F4F-FD94-4F19-8779-B7DDD157A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6B81-8DA0-4692-BAE7-06B1D63E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74649-2CDA-4CD8-BAB0-9F06FD428C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tashtea.com/teawhere.htm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Mrs. Quinn Learned in her Research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th Grade Social Stu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0" y="1371600"/>
            <a:ext cx="941400" cy="1192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371600" y="1371600"/>
            <a:ext cx="941400" cy="11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u Yu’s Advice about Drinking T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p your tea slowly and quiet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 cups of tea are fine, but five cups are too man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not add items such as ginger, orange peels, peppermint, or onions to your t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must add something to your tea, salt is ok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Japanese Tea Ceremo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isai was a Zen Buddhist monk who introduced the tea ceremony to Japan in 119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 also wrote a book, the Kitcha-Yojoki. (The Book of Tea Sanit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152360" y="1981080"/>
            <a:ext cx="2874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s of the Japanese Ceremo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eremony takes place in the host’s tea roo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 separate room called the midsuya, the tea utensils are washed and arrang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uests wait in a third room, the machia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Steps to the Ceremo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ests walk a path through a garden (roji) to the tea roo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ests enter silently through a low do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urais were expected to leave their swords on the rack by the do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971800" y="4572000"/>
            <a:ext cx="2868480" cy="17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en More Steps to the Ceremo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they entered the tea room, guests would admire the host’s decorations and tea 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host greeted the head guest by bowing and offering a sweet candy called kashik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prepared the tea for gues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85800" y="2593800"/>
            <a:ext cx="3809880" cy="28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Even More Ste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receiving their tea, guests were expected to thank the ho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good guest always left an empty cup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087880" y="1981080"/>
            <a:ext cx="2928960" cy="19814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85800" y="2114640"/>
            <a:ext cx="38098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a: A Favorite Drink in Many Count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g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s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025960" y="1981080"/>
            <a:ext cx="3052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d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827360" y="2549520"/>
          <a:ext cx="5487840" cy="175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7360" y="2549520"/>
                    <a:ext cx="5487840" cy="17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rly Lege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a leaves from a nearby bush blew into a cauldron of boiling water and Shen Nung drank it. “What a refreshing drink,” he thou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5800" y="2579760"/>
            <a:ext cx="3809880" cy="29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rly Lege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Indian prince wanted to pray longer. He chewed tea leaves to stay awak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favorite story is how this monk cut off his eyelids to stay awake and a tea shrub grew where the lids land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110200" y="1981080"/>
            <a:ext cx="2886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Does Tea Come Fro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a is harvested from tea shrubs. Only the newest leaves at the top of the bush are pick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676520" y="3733920"/>
            <a:ext cx="53337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’s Learn More about Processing Tea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 out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www.stashtea.com/teawhere.htm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to find out how tea is crea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rinking T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Japanese ground tea leaves into a powder, poured boiling water over the powder, and “whisked” the t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hinese dipped (called “steeping”) tea leaves into hot water to brew t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a in Litera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a was so popular that Lu Yu, a Chinese scholar, wrote a book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’a Ching, The Classic of Te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The book made tea even more popular in the 700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48320" y="2376360"/>
            <a:ext cx="380988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’a C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book included the history of t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ook also explained how to properly make t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886200" y="3809880"/>
            <a:ext cx="137016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u Yu’s Advice about T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a leaves should only be picked on a clear d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enty-four tools were needed to correctly make tea. If you don’t have all of these tools, don’t make t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ter for tea should come from a slow-flowing mountain stre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1T12:33:52Z</dcterms:created>
  <dc:creator>Net Admin</dc:creator>
  <dc:description/>
  <dc:language>en-US</dc:language>
  <cp:lastModifiedBy>Net Admin</cp:lastModifiedBy>
  <dcterms:modified xsi:type="dcterms:W3CDTF">2006-04-11T19:19:15Z</dcterms:modified>
  <cp:revision>28</cp:revision>
  <dc:subject/>
  <dc:title>Tea</dc:title>
</cp:coreProperties>
</file>